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4768-B7F9-452A-A26B-F9B154AD7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DF1-C65D-4D0F-949D-A3E72285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B6E-8352-4809-B405-4A4963C4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087-0C05-4F4C-82DF-D142A55A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755-6C58-4595-B07F-70BE3F40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881-D535-431E-A372-528A341C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236-02C8-4FF0-9FDA-133BA158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C20-2C89-446B-9733-CFD3A883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5A6-26F9-4033-9C5E-8631D1FE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804-C608-437F-932B-38350452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F02-EA6D-40FD-AF60-E96FCA7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456-35E8-4173-A560-1D8611C5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ACEA-37F3-4099-9E43-3398BD73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663E-EA16-4127-B9E0-15596578A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359000" y="770040"/>
            <a:ext cx="2406600" cy="108252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773680" y="950760"/>
            <a:ext cx="2335320" cy="1287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311120" y="4356000"/>
            <a:ext cx="1516320" cy="1346400"/>
          </a:xfrm>
          <a:prstGeom prst="hexagon">
            <a:avLst>
              <a:gd name="adj" fmla="val 28155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sphere.jpg (500×500)"/>
          <p:cNvPicPr/>
          <p:nvPr/>
        </p:nvPicPr>
        <p:blipFill>
          <a:blip r:embed="rId1"/>
          <a:stretch/>
        </p:blipFill>
        <p:spPr>
          <a:xfrm>
            <a:off x="5740560" y="3478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49453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022400" y="2106720"/>
            <a:ext cx="1981080" cy="1447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327560" y="2062080"/>
            <a:ext cx="3181320" cy="23241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73280" y="346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41520" y="2631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800440" y="3164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630440" y="2657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403960" y="311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865080" y="4533840"/>
            <a:ext cx="143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847800" y="5278320"/>
            <a:ext cx="306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(xy+xz+y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60360" y="468360"/>
            <a:ext cx="3540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expressions for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face area &amp; volume of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687920" y="4751280"/>
            <a:ext cx="35179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xkykz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y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692600" y="5383080"/>
            <a:ext cx="4043520" cy="1066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(kxky+kxkz+kyk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(xy+xz+yz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39720" y="145584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is enlarged by scale factor k to give B, th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here.jpg (500×500)"/>
          <p:cNvPicPr/>
          <p:nvPr/>
        </p:nvPicPr>
        <p:blipFill>
          <a:blip r:embed="rId1"/>
          <a:stretch/>
        </p:blipFill>
        <p:spPr>
          <a:xfrm>
            <a:off x="1684440" y="24796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sphere.jpg (500×500)"/>
          <p:cNvPicPr/>
          <p:nvPr/>
        </p:nvPicPr>
        <p:blipFill>
          <a:blip r:embed="rId2"/>
          <a:stretch/>
        </p:blipFill>
        <p:spPr>
          <a:xfrm>
            <a:off x="3738600" y="1608120"/>
            <a:ext cx="380196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214720" y="2622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892840" y="23414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82640" y="4884840"/>
            <a:ext cx="210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210200" y="5729400"/>
            <a:ext cx="34048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20=250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6200000">
            <a:off x="1082520" y="2260440"/>
            <a:ext cx="1270080" cy="17686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6200000">
            <a:off x="4628160" y="2040120"/>
            <a:ext cx="3181320" cy="44308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3880" y="163368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48160" y="1859040"/>
            <a:ext cx="25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2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3828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0200" y="374976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97000" y="3211560"/>
            <a:ext cx="25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673200" y="317484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14360" y="402264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060560" y="5054760"/>
            <a:ext cx="3054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24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4x1.5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457200" y="3056040"/>
            <a:ext cx="1189080" cy="701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293920" y="4051440"/>
            <a:ext cx="3565440" cy="2103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27120" y="1719360"/>
            <a:ext cx="197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473880" y="2089080"/>
            <a:ext cx="26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40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492960" y="5481720"/>
            <a:ext cx="20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62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0824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564160" y="368784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90520" y="4164120"/>
            <a:ext cx="3270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3 and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8c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39:09Z</dcterms:created>
  <dc:creator>dan</dc:creator>
  <dc:description/>
  <dc:language>en-US</dc:language>
  <cp:lastModifiedBy>RomaK</cp:lastModifiedBy>
  <dcterms:modified xsi:type="dcterms:W3CDTF">2015-09-04T09:20:38Z</dcterms:modified>
  <cp:revision>20</cp:revision>
  <dc:subject/>
  <dc:title>Similar shapes</dc:title>
</cp:coreProperties>
</file>